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B11-8B31-4ADD-A99D-32127E190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19C3-A442-42A1-8D61-A6384FE80B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2D8-12B2-4EEE-ADA5-9B558A12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943-7DA7-4F19-A481-3DEDCB8E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0BB-F875-4ECD-B360-52EFD781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B29-DE71-41A2-997B-1A9D2036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877-F80E-4AB6-A9B4-86E3111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7E9-3E5B-4145-BBD1-D9BF5ED2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8B1-C20B-478A-A830-35D0C135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061-878A-4375-A4DE-B2B0F13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455-92E0-4001-817F-EC8102F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FC5-070C-423C-A470-17CDCAB9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244-5612-4491-A6BE-0A4EA2C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972-4128-48C7-82A3-7B47CF4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F0F0-673A-4080-9B96-5704725A4B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dvopros.com/img/494B.jpg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ildren.claw.ru/6_man/CONTENT/skanfoto40/002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ddandeven.narod.ru/Nauka_o_boli/p/10_072.png" TargetMode="Externa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7086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ечевая сис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ерепно-мозговые нер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В ядрах ствола берут начало черепно-мозговые нерв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Иннервацию периферического речевого аппарата осуществляют 6 черепно-мозговых нервов (ЧМН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Тройничный нерв 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- V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Лицево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VI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Языкоглоточны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IX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Блуждающи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– X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Добавочный нерв - 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X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одъязычны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XI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Через систему ЧМН происходит передача нервных импульсов от центра к периферии. Нервные импульсы приводят в движение речевые органы. Они иннервируют мышцы, приводящие в движение нижнюю челюсть, мимическую мускулатуру, мышцы гортани и голосовых складок, глотки и мягкого неба, а  также мышцы шеи, мышцы язы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Через эту систему черепно-мозговых нервов передаются нервные импульсы от центрального речевого аппарата к периферическому и наоборо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ериферический речевой аппа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Периферический речевой аппарат состоит из трех отде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Дыха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Голосов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Артикуляционного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5">
            <a:hlinkClick r:id="rId4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ыхательный от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Действие на дыхательную систему"/>
          <p:cNvPicPr/>
          <p:nvPr/>
        </p:nvPicPr>
        <p:blipFill>
          <a:blip r:embed="rId1"/>
          <a:stretch/>
        </p:blipFill>
        <p:spPr>
          <a:xfrm>
            <a:off x="228600" y="4224240"/>
            <a:ext cx="1676520" cy="243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рудная клетка с легкими, бронхами и трахе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чевое произношение  тесно связано с дыханием; речь образуется в фазу выдоха. При выдохе воздушная струя осуществляет две функции: голосообразующую и артикуляционную, кроме основной – газообмена. В момент речи дыхание изменяется: выдох намного длиннее вдоха; число дыхательных движений вдвое меньше. Происходит больший забор воздуха, увеличивается объем вдыхаемого и выдыхаемого воздуха (примерно в 3 раза). Вдох при речи становится коротким и глубоким; выдох осуществляется при активном участии выдыхательных мыш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ся давление выдыхаем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шной стру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3200400" y="5334120"/>
            <a:ext cx="20574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00" y="0"/>
                </a:moveTo>
                <a:lnTo>
                  <a:pt x="-800" y="4320"/>
                </a:lnTo>
              </a:path>
            </a:pathLst>
          </a:custGeom>
          <a:solidFill>
            <a:srgbClr val="4f81bd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ронхиаль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" descr="16"/>
          <p:cNvPicPr/>
          <p:nvPr/>
        </p:nvPicPr>
        <p:blipFill>
          <a:blip r:embed="rId2"/>
          <a:stretch/>
        </p:blipFill>
        <p:spPr>
          <a:xfrm>
            <a:off x="6858000" y="3581280"/>
            <a:ext cx="2089080" cy="3086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7"/>
          <p:cNvSpPr/>
          <p:nvPr/>
        </p:nvSpPr>
        <p:spPr>
          <a:xfrm>
            <a:off x="3200400" y="5334120"/>
            <a:ext cx="20574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50" y="-33600"/>
                </a:moveTo>
                <a:lnTo>
                  <a:pt x="-800" y="4320"/>
                </a:lnTo>
              </a:path>
            </a:pathLst>
          </a:custGeom>
          <a:solidFill>
            <a:srgbClr val="4f81bd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хеобронхиаль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3276720" y="6324480"/>
            <a:ext cx="152388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480" y="-36000"/>
                </a:moveTo>
                <a:lnTo>
                  <a:pt x="-108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г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191120" y="4572000"/>
            <a:ext cx="182880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00" y="46957"/>
                </a:moveTo>
                <a:lnTo>
                  <a:pt x="22500" y="5635"/>
                </a:lnTo>
              </a:path>
            </a:pathLst>
          </a:custGeom>
          <a:solidFill>
            <a:srgbClr val="4f81bd"/>
          </a:solidFill>
          <a:ln w="9360">
            <a:solidFill>
              <a:srgbClr val="ffb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2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лосовой от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" descr="Картинка 127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3774960" cy="4591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гортани с находящимися в ней голосовыми складками. Гортань представляет собой широкую короткую трубку, состоящую из хрящей и мягких тканей. Снизу она граничит с трахеей, сверху – с глоткой. На границе гортани и глотки находится надгортанник, имеющий форму лепестка и состоящий из хряща. Голосовые складки заполняют просвет гортани, оставляя небольшую голосовую щель. В процессе дыхания голосовая щель открыта, и имеет форму равнобедренного треугольника. Во время речи голосовые складки сомкну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80880" y="4610160"/>
            <a:ext cx="106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114" y="-31050"/>
                </a:moveTo>
                <a:lnTo>
                  <a:pt x="23143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та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2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ртикуляционный от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Times New Roman"/>
              </a:rPr>
              <a:t>Структура артикуляционного отдела речевой системы: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язык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губы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зубы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челюсти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альвеолы, мягкое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твердое небо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надставная труба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Подвижными органами артикуляции яв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Мягкое не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Г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Нижняя челю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Язык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ый орган артикуляции. Это мышечный орган, передняя часть его подвижна, задняя - закреплена и является корнем языка. В подвижной части языка различают кончик, передний край или лезвие, боковые края и спинку. Сложность и переплетенность мышц языка обеспечивает возможность быстро изменять форму, положение и напряженность мышц языка. Это необходимо, т. к. язык участвует в образовании всех гласных и почти всех согласных кроме губ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3444840" y="3581280"/>
            <a:ext cx="2408400" cy="2702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ы представляют собой очень подвижное мышечное образование. Мышцы обеспечивают подвижность губ при движении в разном направлении. Губы покрыты слизистой оболочкой с внутренней поверхности, а снаружи покрыты эпидермисом. Круговая мышца рта обильно кровоснабжена и поэтому имеет более яркий ц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ы являются специальным затвором определенной группы звуков, губы активно участвуют в артикуляции многих звуков, которым соответствует тот или иной уклад языка. Но и очертания губ тоже обеспечивают артикуляцию. Губы способствуют изменению размера и формы преддверия рта и тем самым оказывают влияние на особенности резонанса в рот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952560" cy="790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вердое небо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костная стенка, отделяющая полость рта от носовой полости, является одновременно крышей полости рта и дном носовой полости. В передней (большей) своей части твердое небо образуется небными отростками верхнечелюстных костей, а в заднем отделе – горизонтальными пластинками небных костей. Слизистая оболочка, покрывающая твердое небо, плотно сращена с надкостницей. По средней линии твердого неба виден костный ш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своей форме твердое небо представляет собой выпуклый кверху свод. Конфигурация небного свода у разных людей значительно варьир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ягкое небо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бразование, которое служит продолжением твердого неба, образованного кост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гкое небо представляет собой мышечное образование, покрытое слизистой оболочкой. Задняя часть мягкого неба называется небной занавеской. При расслаблении небных мышц небная занавеска свободно свисает вниз, а при их сокращении поднимается кверху и кзади. В середине небной занавески имеется удлиненный отросток – языч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гкое небо находится на границе ротовой полости и глотки и служит вторым язычковым затвором. По своей структуре мягкое небо представляет собой эластичную мышечную пластинку, которая очень подвижна и при определенных условиях может закрывать вход в носоглотку, поднимаясь кверху и кзади и открывая ее. Эти движения регулируют величину и направление воздушного потока из гортани, направляя этот поток либо через носовую полость, либо через ротовую полость, при этом голос звучит по-разн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елюсти и з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Зубы - строение, описание, вотографии. МедКабинет - Анатомия человека :: Зубы"/>
          <p:cNvPicPr/>
          <p:nvPr/>
        </p:nvPicPr>
        <p:blipFill>
          <a:blip r:embed="rId1"/>
          <a:stretch/>
        </p:blipFill>
        <p:spPr>
          <a:xfrm>
            <a:off x="685800" y="1600200"/>
            <a:ext cx="372600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5105520" y="5753160"/>
            <a:ext cx="19810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108" y="-28350"/>
                </a:moveTo>
                <a:lnTo>
                  <a:pt x="-831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яя челю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029200" y="5029200"/>
            <a:ext cx="91440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00" y="-35345"/>
                </a:moveTo>
                <a:lnTo>
                  <a:pt x="-1800" y="5891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уб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952880" y="4076640"/>
            <a:ext cx="21337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71" y="-1350"/>
                </a:moveTo>
                <a:lnTo>
                  <a:pt x="-771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хняя челю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Схема речев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Кора больших полушар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Подкорковые цент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Проводящие 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Продолговатый моз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Черепно-мозговые нер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Периферический речевой аппа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Дыхательный от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Голосовой от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Артикуляционный от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гу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твердое 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мягкое 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челюсти и зу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надставная тру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дставная труба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ы, расположенные выше гортани: полость глотки, ротовая полость и носовая полость. Глотка и рот образуют общую структуру, входящую в структуру надставной трубы. Она выполняет важную функцию резонат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ставная труб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своему строению может меняться по объему и форме. Эти изменения надставной трубы имеют большое значение для образования звуков речи. Они создают явление резонанса. В результате резонанса одни обертоны речевых звуков усиливаются, другие – заглушаются. Возникает специфический речевой тембр звуков. Надставная труба при образовании звуков речи выполняет двоякую функцию: резонатора и шумового вибратора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умовым вибратор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ются щели между губами, между языком и альвеолами, между губами и зубами, 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рываемые струей воздуха смычки меж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ми органами. При помощи шумового вибра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ся глухие согласн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дновременном включе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вук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брато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олебании голосовых склад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ся звонкие и сонорные соглас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Глотка - строение, описание, вотографии. МедКабинет - Анатомия человека :: Глотка"/>
          <p:cNvPicPr/>
          <p:nvPr/>
        </p:nvPicPr>
        <p:blipFill>
          <a:blip r:embed="rId1"/>
          <a:stretch/>
        </p:blipFill>
        <p:spPr>
          <a:xfrm>
            <a:off x="6400800" y="4191120"/>
            <a:ext cx="1800360" cy="2189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итера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«Физиология человека» Е.Б. Бабский, А.А. Зубков, Г.И. Косицкий, Б.И. Ходоров изд. Медицина 196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«Анатомия» А.С. Гусев, Ю.П. Сергеев изд. Медицина 1970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tp://medkabine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tp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://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referat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base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ru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base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/65/26681.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2120" y="387000"/>
            <a:ext cx="7529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ff"/>
                </a:solidFill>
                <a:latin typeface="Times New Roman"/>
              </a:rPr>
              <a:t>Схема речевой систем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228600" y="990720"/>
            <a:ext cx="1066680" cy="152388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523880"/>
              <a:gd name="textAreaBottom" fmla="*/ 1472040 h 1523880"/>
            </a:gdLst>
            <a:ahLst/>
            <a:rect l="textAreaLeft" t="textAreaTop" r="textAreaRight" b="textAreaBottom"/>
            <a:pathLst>
              <a:path w="21600" h="30855">
                <a:moveTo>
                  <a:pt x="3600" y="0"/>
                </a:moveTo>
                <a:arcTo wR="3600" hR="3600" stAng="16200000" swAng="-5400000"/>
                <a:lnTo>
                  <a:pt x="0" y="27255"/>
                </a:lnTo>
                <a:arcTo wR="3600" hR="3600" stAng="10800000" swAng="-5400000"/>
                <a:lnTo>
                  <a:pt x="18000" y="30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К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больш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олушар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1828800" y="990720"/>
            <a:ext cx="1371600" cy="14475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447560"/>
              <a:gd name="textAreaBottom" fmla="*/ 1380600 h 1447560"/>
            </a:gdLst>
            <a:ahLst/>
            <a:rect l="textAreaLeft" t="textAreaTop" r="textAreaRight" b="textAreaBottom"/>
            <a:pathLst>
              <a:path w="21600" h="22796">
                <a:moveTo>
                  <a:pt x="3600" y="0"/>
                </a:moveTo>
                <a:arcTo wR="3600" hR="3600" stAng="16200000" swAng="-5400000"/>
                <a:lnTo>
                  <a:pt x="0" y="19196"/>
                </a:lnTo>
                <a:arcTo wR="3600" hR="3600" stAng="10800000" swAng="-5400000"/>
                <a:lnTo>
                  <a:pt x="18000" y="22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одкорко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ент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rId3" action="ppaction://hlinksldjump"/>
          </p:cNvPr>
          <p:cNvSpPr/>
          <p:nvPr/>
        </p:nvSpPr>
        <p:spPr>
          <a:xfrm>
            <a:off x="7086600" y="9907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родолг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моз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rId4" action="ppaction://hlinksldjump"/>
          </p:cNvPr>
          <p:cNvSpPr/>
          <p:nvPr/>
        </p:nvSpPr>
        <p:spPr>
          <a:xfrm>
            <a:off x="3429000" y="990720"/>
            <a:ext cx="3429000" cy="533160"/>
          </a:xfrm>
          <a:prstGeom prst="rightArrow">
            <a:avLst>
              <a:gd name="adj1" fmla="val 50000"/>
              <a:gd name="adj2" fmla="val 16078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 е н т р о б е ж н ы 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rId5" action="ppaction://hlinksldjump"/>
          </p:cNvPr>
          <p:cNvSpPr/>
          <p:nvPr/>
        </p:nvSpPr>
        <p:spPr>
          <a:xfrm>
            <a:off x="3429000" y="1676520"/>
            <a:ext cx="3429000" cy="609480"/>
          </a:xfrm>
          <a:prstGeom prst="leftArrow">
            <a:avLst>
              <a:gd name="adj1" fmla="val 50000"/>
              <a:gd name="adj2" fmla="val 140653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 е н т р о с т р е м и т е л ь н ы 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447920" y="1295280"/>
            <a:ext cx="3045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8">
            <a:hlinkClick r:id="rId6" action="ppaction://hlinksldjump"/>
          </p:cNvPr>
          <p:cNvSpPr/>
          <p:nvPr/>
        </p:nvSpPr>
        <p:spPr>
          <a:xfrm>
            <a:off x="5222880" y="2884320"/>
            <a:ext cx="2279520" cy="304920"/>
          </a:xfr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тройни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9">
            <a:hlinkClick r:id="rId7" action="ppaction://hlinksldjump"/>
          </p:cNvPr>
          <p:cNvSpPr/>
          <p:nvPr/>
        </p:nvSpPr>
        <p:spPr>
          <a:xfrm>
            <a:off x="5383080" y="3562200"/>
            <a:ext cx="2133720" cy="31140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VI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лицево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0">
            <a:hlinkClick r:id="rId8" action="ppaction://hlinksldjump"/>
          </p:cNvPr>
          <p:cNvSpPr/>
          <p:nvPr/>
        </p:nvSpPr>
        <p:spPr>
          <a:xfrm>
            <a:off x="4842000" y="4257720"/>
            <a:ext cx="2666880" cy="33336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IX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языкоглото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2">
            <a:hlinkClick r:id="rId9" action="ppaction://hlinksldjump"/>
          </p:cNvPr>
          <p:cNvSpPr/>
          <p:nvPr/>
        </p:nvSpPr>
        <p:spPr>
          <a:xfrm>
            <a:off x="5078520" y="4921200"/>
            <a:ext cx="2438280" cy="30960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блуждающи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3">
            <a:hlinkClick r:id="rId10" action="ppaction://hlinksldjump"/>
          </p:cNvPr>
          <p:cNvSpPr/>
          <p:nvPr/>
        </p:nvSpPr>
        <p:spPr>
          <a:xfrm>
            <a:off x="5030640" y="5597640"/>
            <a:ext cx="2514600" cy="32832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добаво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4">
            <a:hlinkClick r:id="rId11" action="ppaction://hlinksldjump"/>
          </p:cNvPr>
          <p:cNvSpPr/>
          <p:nvPr/>
        </p:nvSpPr>
        <p:spPr>
          <a:xfrm>
            <a:off x="5029200" y="6248520"/>
            <a:ext cx="2514600" cy="304560"/>
          </a:xfr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I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подъязы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4384800" y="2808360"/>
            <a:ext cx="533160" cy="3809880"/>
          </a:xfrm>
          <a:custGeom>
            <a:avLst/>
            <a:gdLst>
              <a:gd name="textAreaLeft" fmla="*/ 340560 w 533160"/>
              <a:gd name="textAreaRight" fmla="*/ 533520 w 53316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6">
            <a:hlinkClick r:id="rId12" action="ppaction://hlinksldjump"/>
          </p:cNvPr>
          <p:cNvSpPr/>
          <p:nvPr/>
        </p:nvSpPr>
        <p:spPr>
          <a:xfrm>
            <a:off x="2514600" y="434340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ерифер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речевой аппа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7">
            <a:hlinkClick r:id="rId13" action="ppaction://hlinksldjump"/>
          </p:cNvPr>
          <p:cNvSpPr/>
          <p:nvPr/>
        </p:nvSpPr>
        <p:spPr>
          <a:xfrm>
            <a:off x="270000" y="311292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Дых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8">
            <a:hlinkClick r:id="rId14" action="ppaction://hlinksldjump"/>
          </p:cNvPr>
          <p:cNvSpPr/>
          <p:nvPr/>
        </p:nvSpPr>
        <p:spPr>
          <a:xfrm>
            <a:off x="270000" y="433224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Голосов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9">
            <a:hlinkClick r:id="rId15" action="ppaction://hlinksldjump"/>
          </p:cNvPr>
          <p:cNvSpPr/>
          <p:nvPr/>
        </p:nvSpPr>
        <p:spPr>
          <a:xfrm>
            <a:off x="193680" y="555156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Артикуляцио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1946160" y="2884320"/>
            <a:ext cx="381240" cy="3733920"/>
          </a:xfrm>
          <a:custGeom>
            <a:avLst/>
            <a:gdLst>
              <a:gd name="textAreaLeft" fmla="*/ 0 w 381240"/>
              <a:gd name="textAreaRight" fmla="*/ 137520 w 38124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1">
            <a:hlinkClick r:id="rId16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ра больших полуш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4" descr="Картинка 122 из 43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11360"/>
            <a:ext cx="4800600" cy="4427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существление речевых рефлексов связана с деятельностью различных участков коры голов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сочная доля ко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слухоречевой областью, которая воспринимает речевую информацию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она Верник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ле 22); затылочные доли содержат центр зрения и способствует усвоению письменной речи. Развитие речи ребенка происходит благодаря зрительному восприятию ребенком артикуляции взросл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5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корковые цен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регуляцию мышечного тонуса, экономичное расходование мышечной энергии; регулируют основные просодические компоненты звучной речи: темп, плавность, громкость, индивидуальный тембр, эмоциональную выразительност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иопаллида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истема включена в организацию произвольных движ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одящие пути</a:t>
            </a:r>
            <a:br>
              <a:rPr sz="3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тральный отдел речевой системы связан с периферическим речевым аппаратом проводящими нервными путями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9051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Центробеж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ствол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тикул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р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мосто-мозжечк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т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ний продольный пуч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67080" y="1980720"/>
            <a:ext cx="47246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Центростремитель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нглио-бульбо-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ля тройничного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ковая пет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мозжечк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7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Центробежные пути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нисходящие, двигательны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Центробежные нервные пути являются двигательными и проводят информацию из центров коры на рабочий орган. Главными из них являются: корково-спинальный, корково-стволовой, тектоспинальный путь, ретикулоспинальный, руброспинальный, корково-мосто-мозжечковый, задний продольный пуч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Иннервацию мышц артикуляционного аппарата (мышц языка, гортани, глотки) обеспечивает корково-стволовой путь. </a:t>
            </a:r>
            <a:r>
              <a:rPr b="1" lang="ru-RU" sz="2600" spc="-1" strike="noStrike">
                <a:solidFill>
                  <a:srgbClr val="898989"/>
                </a:solidFill>
                <a:latin typeface="Times New Roman"/>
              </a:rPr>
              <a:t>Корково-спинальный путь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 иннервирует мышцы верхних и нижних конечностей, шею, туловище, область т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нтростремительные пут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восходящие, чувстви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</a:rPr>
              <a:t>Центростремительные пути начинаются в рецепторах нервной системы, в т.ч. костно-мышечной системы организма. Это спиноталамический, ганглио-бульбо-таламический, петля тройничного нерва, боковая петля, спиномозжечковый путь. Проприорецепторы приходят в действие при мышечных сокращениях, движениях сухожилий и суставов. Благодаря им контролируется вся мышечная деятель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</a:rPr>
              <a:t>Барорецепторы находятся в глотке и приходят в действие при изменении давления воздуха в глотке и мышечного давления, о чем информируют двигательные центры коры больших полушар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долговатый моз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152280" y="14479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ит ядра черепно-мозговых нервов и проводящие пути. В составе имеет ретикулярную формацию, которая активизирует деятельность коры. Продолговатый мозг имеет центры, регулирующие сердечнососудистую деятельность, дыхание, пищеварение и другие струк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– продолговатый моз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Картинка 10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55880"/>
            <a:ext cx="4038480" cy="38196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11-23T21:35:4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